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A77-C51B-46C0-A45A-6A14E6B1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75A-3D24-466C-A100-6A175F4F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4DF-5230-42A6-AC7A-5893C862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BBA-906A-4471-A28A-8C16C1BE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1BE-2556-4128-BD0F-6FD9F967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0CC-1760-44C4-8C8F-5DCD5876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3083-834B-4284-929C-0765A72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2E8-F3ED-4CF1-B4D1-DC11FC5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3D6-F4DF-4F6F-BDE9-0B8EBCB5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845-2A9D-4770-9940-49F4A03D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D4F-F3F7-4CF6-8D59-1CCC88D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DD3-7B89-4BA9-BAFA-912163D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417-FBEE-446A-9727-F805EB7A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hhsteched.wikispaces.com/TE510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e-in-a-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7502" t="23960" r="18749" b="11458"/>
          <a:stretch/>
        </p:blipFill>
        <p:spPr>
          <a:xfrm>
            <a:off x="228600" y="1447920"/>
            <a:ext cx="4267080" cy="4724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37502" t="25004" r="18749" b="11458"/>
          <a:stretch/>
        </p:blipFill>
        <p:spPr>
          <a:xfrm>
            <a:off x="4572000" y="1447920"/>
            <a:ext cx="433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enter mouse button to rotate the cube so you can watch it 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the play button to watch the tool c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30470" t="25004" r="28126" b="10420"/>
          <a:stretch/>
        </p:blipFill>
        <p:spPr>
          <a:xfrm>
            <a:off x="4495680" y="1295280"/>
            <a:ext cx="4038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steps 3 – 7 on each side of the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lt + (2-5) to quickly look at each sid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have all arrows rotating counterclock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5937" t="26042" r="21093" b="12502"/>
          <a:stretch/>
        </p:blipFill>
        <p:spPr>
          <a:xfrm>
            <a:off x="4343400" y="914400"/>
            <a:ext cx="4191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 following link to the file and tutorial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hhsteched.wikispaces.com/TE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the following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plate cube-in-a-cube .5 depth.mc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ck and Save Target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it in a temp file or to a dis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file in MasterCAM X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ck in the toolbar area and make s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pla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olbars are check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WCS toolbar icon and set to Plane by geome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57034" t="3125" r="20315" b="62504"/>
          <a:stretch/>
        </p:blipFill>
        <p:spPr>
          <a:xfrm>
            <a:off x="5327640" y="1828800"/>
            <a:ext cx="381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Cplanes toolbar icon and set to Cplane by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Alt and press 1 (or go to view standard 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uld look lik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6564" t="9376" r="42191" b="66668"/>
          <a:stretch/>
        </p:blipFill>
        <p:spPr>
          <a:xfrm>
            <a:off x="3657600" y="457200"/>
            <a:ext cx="5257800" cy="302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34376" t="31250" r="34376" b="28124"/>
          <a:stretch/>
        </p:blipFill>
        <p:spPr>
          <a:xfrm>
            <a:off x="4419720" y="3657600"/>
            <a:ext cx="3047760" cy="2971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895480" y="5181120"/>
            <a:ext cx="14479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from the top menu b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olpa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green arrow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2814" t="3125" r="46875" b="60422"/>
          <a:stretch/>
        </p:blipFill>
        <p:spPr>
          <a:xfrm>
            <a:off x="4800600" y="914400"/>
            <a:ext cx="4019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3352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elect one of the circles on any side of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 arrow should face counter clockwise if it does not select the reverse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green arrow when d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405" t="23960" r="34376" b="9376"/>
          <a:stretch/>
        </p:blipFill>
        <p:spPr>
          <a:xfrm>
            <a:off x="3886200" y="685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1371600"/>
            <a:ext cx="1371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81280" y="3352680"/>
            <a:ext cx="46483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33920" y="4343040"/>
            <a:ext cx="12952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427560" y="5409720"/>
            <a:ext cx="98712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ool use a ½ straight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link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th -0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4688" t="12502" r="39064" b="5207"/>
          <a:stretch/>
        </p:blipFill>
        <p:spPr>
          <a:xfrm>
            <a:off x="3352680" y="457200"/>
            <a:ext cx="548640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90920" y="5029200"/>
            <a:ext cx="556236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71800" y="2895120"/>
            <a:ext cx="76212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14600" y="1523520"/>
            <a:ext cx="1219320" cy="129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just created the first of 6 Toolp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ue lines are the path that the tool will ta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35158" t="31250" r="34376" b="28124"/>
          <a:stretch/>
        </p:blipFill>
        <p:spPr>
          <a:xfrm>
            <a:off x="4419720" y="2209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verify to see if the Toolpath 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-1558" t="0" r="78910" b="51046"/>
          <a:stretch/>
        </p:blipFill>
        <p:spPr>
          <a:xfrm>
            <a:off x="5029200" y="457200"/>
            <a:ext cx="3621240" cy="586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05320" y="2209680"/>
            <a:ext cx="388620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5:03:41Z</dcterms:created>
  <dc:creator>Administrator</dc:creator>
  <dc:description/>
  <dc:language>en-US</dc:language>
  <cp:lastModifiedBy>Administrator</cp:lastModifiedBy>
  <dcterms:modified xsi:type="dcterms:W3CDTF">2009-11-10T18:12:49Z</dcterms:modified>
  <cp:revision>7</cp:revision>
  <dc:subject/>
  <dc:title>Cube-in-a-cube</dc:title>
</cp:coreProperties>
</file>